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F06-A141-4D5E-A7FC-8A01865A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7B7E-5B3D-43FA-B487-1DF19303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BA21-99BD-44D6-9171-A906CE14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AAC6-0B22-49F0-9E90-3ACACBEF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A56E-C8EF-4779-A886-9A450EDA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B125-88F8-4194-9843-446DE2AB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C092-ED6B-48DF-B8CC-CC4F51E8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9833-10DD-4A92-924F-301CA32C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A910-ECA5-4D7D-9192-206C00EB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3815-9630-4324-80B5-34B3F034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74FE-E9F3-4765-9E5D-18FE276D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4477-3444-4429-BF23-5417ABC0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740A-D5FF-4B25-A097-AEBDBF9D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F21B-A6EC-4F81-AE55-6B9D5E65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7CEE-F9C1-4FB4-B9D8-D52163BC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588D-A4E0-41EC-B795-FE7CBA7D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8B34-31BC-4499-9761-21E5F863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E209-C182-4E82-A700-EB24F6F4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4497-4AB8-45D1-B116-503D3D2E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E71E-E253-4742-A92F-993DEFF1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A5BF-E04B-4B40-BDA3-B9DF0959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872C-CA2A-421F-A52A-736D2373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F31E-D0AE-4C8C-A4C2-D0E724CD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8946-347D-49A8-AB8E-DF824AFA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06CF-4E6B-4182-AEEA-F3D7BF6726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EA18-E5F3-4755-BEF1-EDF4382E00B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Pe aripi de poe</a:t>
            </a:r>
            <a:r>
              <a:rPr b="0" lang="ro-RO" sz="4800" spc="-1" strike="noStrike">
                <a:solidFill>
                  <a:srgbClr val="330033"/>
                </a:solidFill>
                <a:latin typeface="Times New Roman"/>
              </a:rPr>
              <a:t>zi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roiect de învăţare pentru clasa a X-a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nul şcolar 2010-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"/>
              </a:rPr>
              <a:t>Prezentarea lecţii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e aripi de poe</a:t>
            </a:r>
            <a:r>
              <a:rPr b="0" lang="ro-RO" sz="3800" spc="-1" strike="noStrike">
                <a:solidFill>
                  <a:srgbClr val="330033"/>
                </a:solidFill>
                <a:latin typeface="Times New Roman"/>
              </a:rPr>
              <a:t>zie- </a:t>
            </a:r>
            <a:r>
              <a:rPr b="0" lang="ro-RO" sz="3800" spc="-1" strike="noStrike">
                <a:solidFill>
                  <a:srgbClr val="0000ff"/>
                </a:solidFill>
                <a:latin typeface="Times New Roman"/>
              </a:rPr>
              <a:t>Mihai Eminescu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Luceafăr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1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nţelegea textului. Prima lectură. Harta şi fişa de lectur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2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ecvenţele poetice; tema şi motivele tex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3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stanţele lirice; ipostaze ale geniului roman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4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terpretarea textului; tema şi viziunea despre lume, simboluri romantice, figuri de stil şi de compoziţ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5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: structurarea eseului argumenta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 aripi de poe</a:t>
            </a:r>
            <a:r>
              <a:rPr b="0" lang="ro-RO" sz="4200" spc="-1" strike="noStrike">
                <a:solidFill>
                  <a:srgbClr val="330033"/>
                </a:solidFill>
                <a:latin typeface="Times New Roman"/>
              </a:rPr>
              <a:t>zie- </a:t>
            </a:r>
            <a:r>
              <a:rPr b="0" lang="ro-RO" sz="4200" spc="-1" strike="noStrike">
                <a:solidFill>
                  <a:srgbClr val="0000ff"/>
                </a:solidFill>
                <a:latin typeface="Times New Roman"/>
              </a:rPr>
              <a:t>George Bacov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Plou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1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nţelegea textului. Prima lectură. Harta şi fişa de lectur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2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ecvenţele poetice; tema şi motivele tex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3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stanţele lirice; tipare simbolis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4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terpretarea textului; tema şi viziunea despre lume, simboluri şi sinestezii, figuri de stil şi de compoziţ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5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: structurarea eseului argumenta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 aripi de poe</a:t>
            </a:r>
            <a:r>
              <a:rPr b="0" lang="ro-RO" sz="4200" spc="-1" strike="noStrike">
                <a:solidFill>
                  <a:srgbClr val="330033"/>
                </a:solidFill>
                <a:latin typeface="Times New Roman"/>
              </a:rPr>
              <a:t>zie- </a:t>
            </a:r>
            <a:r>
              <a:rPr b="0" lang="ro-RO" sz="4200" spc="-1" strike="noStrike">
                <a:solidFill>
                  <a:srgbClr val="0000ff"/>
                </a:solidFill>
                <a:latin typeface="Times New Roman"/>
              </a:rPr>
              <a:t>Lucian Blag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Eu nu strivesc corola de minuni a lum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1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prezentare generală a poeziei moderne interbe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o-RO" sz="2800" spc="-1" strike="noStrike">
                <a:solidFill>
                  <a:srgbClr val="0000ff"/>
                </a:solidFill>
                <a:latin typeface="Arial"/>
              </a:rPr>
              <a:t>Lecţia 2: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nţelegea textului. Prima lectură. Harta şi fişa de lectur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3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ecvenţele poetice; tema şi motivele tex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4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stanţele lirice; tipare modernis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5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terpretarea textului; tema şi viziunea despre lume, simboluri şi sinestezii, figuri de stil şi de compoziţ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6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: structurarea eseului argumenta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 aripi de poe</a:t>
            </a:r>
            <a:r>
              <a:rPr b="0" lang="ro-RO" sz="4200" spc="-1" strike="noStrike">
                <a:solidFill>
                  <a:srgbClr val="330033"/>
                </a:solidFill>
                <a:latin typeface="Times New Roman"/>
              </a:rPr>
              <a:t>zie- </a:t>
            </a:r>
            <a:r>
              <a:rPr b="0" lang="ro-RO" sz="4200" spc="-1" strike="noStrike">
                <a:solidFill>
                  <a:srgbClr val="0000ff"/>
                </a:solidFill>
                <a:latin typeface="Times New Roman"/>
              </a:rPr>
              <a:t>Tudor Arghez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Flori de mucig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1</a:t>
            </a:r>
            <a:r>
              <a:rPr b="0" i="1" lang="ro-RO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nţelegea textului. Prima lectură. Harta şi fişa de lectur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2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ecvenţele poetice; tema şi motivele tex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3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stetica urâ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4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: ipostaza eului liric; arta poetic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5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terpretarea textului; tema şi viziunea despre lume, figuri de stil şi de compoziţ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6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: structurarea eseului argumenta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 aripi de poe</a:t>
            </a:r>
            <a:r>
              <a:rPr b="0" lang="ro-RO" sz="4200" spc="-1" strike="noStrike">
                <a:solidFill>
                  <a:srgbClr val="330033"/>
                </a:solidFill>
                <a:latin typeface="Times New Roman"/>
              </a:rPr>
              <a:t>zie- </a:t>
            </a:r>
            <a:r>
              <a:rPr b="0" lang="ro-RO" sz="4200" spc="-1" strike="noStrike">
                <a:solidFill>
                  <a:srgbClr val="0000ff"/>
                </a:solidFill>
                <a:latin typeface="Times New Roman"/>
              </a:rPr>
              <a:t>Ion Barb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Riga Crypto şi lapona Enig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1</a:t>
            </a:r>
            <a:r>
              <a:rPr b="0" i="1" lang="ro-RO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rezentarea etapelor de creaţie barbiene; integrarea textului în etapa baladic- orientală; conturarea orizontului de aştep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2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: înţelegea textului. Prima lectură. Harta şi fişa de lectur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3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ecvenţele poetice; tema şi motivele tex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4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lirismul obiectiv; personajele; structura epică a tex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5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terpretarea textului; tema şi viziunea despre lume, figuri de stil şi de compoziţ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6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: structurarea eseului argumenta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Pe aripi de poe</a:t>
            </a:r>
            <a:r>
              <a:rPr b="0" lang="ro-RO" sz="3800" spc="-1" strike="noStrike">
                <a:solidFill>
                  <a:srgbClr val="330033"/>
                </a:solidFill>
                <a:latin typeface="Times New Roman"/>
              </a:rPr>
              <a:t>zie- </a:t>
            </a:r>
            <a:r>
              <a:rPr b="0" lang="ro-RO" sz="3800" spc="-1" strike="noStrike">
                <a:solidFill>
                  <a:srgbClr val="0000ff"/>
                </a:solidFill>
                <a:latin typeface="Times New Roman"/>
              </a:rPr>
              <a:t>Nichita Stănescu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Arial"/>
              </a:rPr>
              <a:t>Leoaică tânără, iubi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1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prezentare generală a poeziei neomodern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o-RO" sz="2800" spc="-1" strike="noStrike">
                <a:solidFill>
                  <a:srgbClr val="0000ff"/>
                </a:solidFill>
                <a:latin typeface="Arial"/>
              </a:rPr>
              <a:t>Lecţia 2:</a:t>
            </a:r>
            <a:r>
              <a:rPr b="0" i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nţelegea textului. Prima lectură. Harta şi fişa de lectur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3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ecvenţele poetice; tema şi motivele tex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4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stanţele lirice; tipare modernis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5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interpretarea textului; tema şi viziunea despre lume, simboluri şi sinestezii, figuri de stil şi de compoziţ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800" spc="-1" strike="noStrike">
                <a:solidFill>
                  <a:srgbClr val="0000ff"/>
                </a:solidFill>
                <a:latin typeface="Arial"/>
              </a:rPr>
              <a:t>Lecţia 6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: structurarea eseului argumenta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0:54:09Z</dcterms:created>
  <dc:creator>Cursant18</dc:creator>
  <dc:description/>
  <dc:language>en-US</dc:language>
  <cp:lastModifiedBy>Albert Hajnalka</cp:lastModifiedBy>
  <dcterms:modified xsi:type="dcterms:W3CDTF">2010-09-06T11:46:13Z</dcterms:modified>
  <cp:revision>3</cp:revision>
  <dc:subject/>
  <dc:title>Pe aripi de poezie</dc:title>
</cp:coreProperties>
</file>